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png" ContentType="image/png"/>
  <Override PartName="/ppt/media/image42.jpeg" ContentType="image/jpeg"/>
  <Override PartName="/ppt/media/image23.pct" ContentType="image/x-pict"/>
  <Override PartName="/ppt/media/image26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2.pct" ContentType="image/x-pict"/>
  <Override PartName="/ppt/media/image14.png" ContentType="image/png"/>
  <Override PartName="/ppt/media/image10.jpeg" ContentType="image/jpeg"/>
  <Override PartName="/ppt/media/image1.pct" ContentType="image/x-pict"/>
  <Override PartName="/ppt/media/image4.png" ContentType="image/png"/>
  <Override PartName="/ppt/media/image31.pct" ContentType="image/x-pict"/>
  <Override PartName="/ppt/media/image34.png" ContentType="image/png"/>
  <Override PartName="/ppt/media/image27.png" ContentType="image/png"/>
  <Override PartName="/ppt/media/image32.png" ContentType="image/png"/>
  <Override PartName="/ppt/media/image9.pct" ContentType="image/x-pict"/>
  <Override PartName="/ppt/media/image11.png" ContentType="image/png"/>
  <Override PartName="/ppt/media/image38.pct" ContentType="image/x-pict"/>
  <Override PartName="/ppt/media/image40.png" ContentType="image/png"/>
  <Override PartName="/ppt/media/image46.jpeg" ContentType="image/jpeg"/>
  <Override PartName="/ppt/media/image47.jpeg" ContentType="image/jpe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44.pct" ContentType="image/x-pict"/>
  <Override PartName="/ppt/media/image45.jpeg" ContentType="image/jpeg"/>
  <Override PartName="/ppt/media/image50.jpeg" ContentType="image/jpeg"/>
  <Override PartName="/ppt/media/image13.png" ContentType="image/png"/>
  <Override PartName="/ppt/media/image51.pct" ContentType="image/x-pict"/>
  <Override PartName="/ppt/media/image28.png" ContentType="image/png"/>
  <Override PartName="/ppt/media/image8.png" ContentType="image/png"/>
  <Override PartName="/ppt/media/image21.pct" ContentType="image/x-pict"/>
  <Override PartName="/ppt/media/image24.png" ContentType="image/png"/>
  <Override PartName="/ppt/media/image39.png" ContentType="image/png"/>
  <Override PartName="/ppt/media/image36.pct" ContentType="image/x-pict"/>
  <Override PartName="/ppt/media/image6.pct" ContentType="image/x-pict"/>
  <Override PartName="/ppt/media/image3.png" ContentType="image/png"/>
  <Override PartName="/ppt/media/image33.png" ContentType="image/png"/>
  <Override PartName="/ppt/media/image30.pct" ContentType="image/x-pict"/>
  <Override PartName="/ppt/media/image2.pct" ContentType="image/x-pict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E11-4EEE-4907-B7A4-73AE8395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179-11C1-4C0C-87D5-301C76FE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2D0-9E0B-4D32-AC7C-FA9ADEC5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509-8C82-4C09-BCFD-7DF79AD31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DA5-9D24-4EFC-B304-1A00D94B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6E9-7C74-48DC-A4E5-E8BAF60C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E87-4A27-4CBC-A32B-32F45D18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D6A-796C-4ADB-AD5E-DBE03AC7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421-29AD-45ED-9BA8-BC1034D1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44F-6658-4EBC-806E-84E0942B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DC4-E8FA-4261-A981-474AB0F4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509-6B3C-4356-BE2F-5F28824A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945C-0F71-48C6-9F46-E2450D237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apter 3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oviding First Aid and Handling Emergenci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2880" y="3886200"/>
            <a:ext cx="3962520" cy="2676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365760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vuls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results when tissue is separated partly or completely from  a person’s bod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usually occur in auto accident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and from animal b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severed part should be sen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with person to hosp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pack part in ice or ice wa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137360" cy="5353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5943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ul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59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st Aid for Open W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op the blee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pressure point - one of a number of points along the main artery supplying blood to an affected li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apply direct pressure to wound or pressure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Protect the wound - cover the wound with a clean clo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Treat for sho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shock - the failure of the cardio- vascular system to keep adequate blood circulation to the vital organs of the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59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ptoms of shock include confusion, accelerated or slowed pulse rate, trembling, weakness in the arms and legs, pale or clammy skin, pale or bluish lips and fingernails, and enlarged pupi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reatmen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keep victim lying down, maintain body temperature, elevate feet if possible, and get medical help.  D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ive food or drin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Ge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Send someone for help or if you are alone shout for hel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Leave the victim only after you have performed first aid and feel that you have lessened the risk of further injury or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8"/>
                </a:solidFill>
                <a:latin typeface="Times New Roman"/>
              </a:rPr>
              <a:t>Check - Call -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calling 911, give the follow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at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Telephon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286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Exact 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95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Caller’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What happe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962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Number and condition of victi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72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What help is being g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81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8"/>
                </a:solidFill>
                <a:latin typeface="Times New Roman"/>
              </a:rPr>
              <a:t>!!!Do not hang up first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Blood Typ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Rece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,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, 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, B, AB, O  Universal Receiv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                  Universal Do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h factor - a protein found in some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810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1371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8195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339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6483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4864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495680" y="19807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59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evere Bur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degree bur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are superfi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involve top layer of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heal in 5 to 6 d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example: most sunbu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3149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860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8"/>
                </a:solidFill>
                <a:latin typeface="Times New Roman"/>
              </a:rPr>
              <a:t>First Ai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the immediate, temporary care given to a person who has become sick or who has been injur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2298600" cy="198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512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322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72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degree bur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involves top severa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sk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will have blisters an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ar blot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3 to 4 weeks to he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6553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5245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degree bur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the most serious bu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destroys skin, nerves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cles, fat, and b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 appears black or br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808200"/>
            <a:ext cx="67053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6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st Aid for Severe Bur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se burn with plenty of cool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 a clean dry dressing over the burned area to prevent inf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se area above the level of the heart if pos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at for sh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ttem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to remove clothing that is stuck to the burn or to treat burns where the skin has been burned aw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3341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oisonin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914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n occur through swallowing or inhaling a toxic substance, through snakebite, or through contact with a poisonous plant or chemi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76720"/>
            <a:ext cx="91440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between 1 and 2 million poisonings occur in US each y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28600" y="4724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most involve children under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48520" y="4191120"/>
            <a:ext cx="2654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174840" cy="3949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4572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9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Priorities in an Emergenc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Check immediate surrou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See if victim is consc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Check breat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Control bl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Check for poi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Send for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gns of oral poison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sharp abdominal cram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reme drowsiness followed by loss o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cious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vom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chemical odor on the bre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chemical burns on the l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open container of a poisonous sub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2430720" cy="250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29400" y="1522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First Aid for Swallowing Poi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83808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poison control center- </a:t>
            </a:r>
            <a:r>
              <a:rPr b="0" lang="en-US" sz="3200" spc="-1" strike="noStrike">
                <a:solidFill>
                  <a:srgbClr val="ff0008"/>
                </a:solidFill>
                <a:latin typeface="Times New Roman"/>
              </a:rPr>
              <a:t>1-800-848-694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00200"/>
            <a:ext cx="914400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Have the following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362320"/>
            <a:ext cx="914400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ge and weight of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name of suspected po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962520"/>
            <a:ext cx="9144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amount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time it was taken, if kn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reat for sh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6095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etic- an agent that induces vom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400800" y="2590920"/>
            <a:ext cx="20750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nakebi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sonous ones in U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attlesnak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Copperhea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Water moccas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Coral sn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590920"/>
            <a:ext cx="9144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 victim to hospital - keep the victim as still and quiet as possib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Keep the bitten area at or below the level of the he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Call EMS for instru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33520"/>
            <a:ext cx="914400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Do not put ice on bite, the ven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es more damage in a col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nom - a poisonous substance secreted by a snake or other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148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Maintain breathing and prevent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avation of the w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move slowly and rest periodic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78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9080" y="3949560"/>
            <a:ext cx="4444920" cy="2908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800600" y="58680"/>
            <a:ext cx="4343400" cy="3370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0" y="3911760"/>
            <a:ext cx="4419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10080" y="380880"/>
            <a:ext cx="3353040" cy="22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tact Poiso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143000"/>
            <a:ext cx="8915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 Pl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67652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Poison ivy, poison oak,poison sum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9718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First defense - learn what they look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267080"/>
            <a:ext cx="9144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Causes - rash, blistering, swell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rning, itching, and possible a f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486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irst ai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remove contaminate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45720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wash with soap and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use Calamine lotion for it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if severe, get medical hel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514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. Chemic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76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ousehold cleaning agents and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sticides are common causes of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so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334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should be stored out of reach of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Direct contact with a poison usuall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uses a burning of the skin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mbling a sunbur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82880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First aid - remove any contaminate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flood area with water for 15 min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contact poison control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4000" spc="-1" strike="noStrike">
                <a:solidFill>
                  <a:srgbClr val="ff0008"/>
                </a:solidFill>
                <a:latin typeface="Times New Roman"/>
              </a:rPr>
              <a:t>1-800-848-694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son 3 -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Aid for Choking,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cu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eathing, and C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ok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occurs when a piece of food becomes lodged in th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chea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windpi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12200" y="4952880"/>
            <a:ext cx="1531800" cy="1905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3200400"/>
            <a:ext cx="9144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universal choking sign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both hand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d at the throa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Secondary Measure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*learn what happened, devise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*safety and comfort of victi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*maintain body tempera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*loosen tight clo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8"/>
                </a:solidFill>
                <a:latin typeface="Times New Roman"/>
              </a:rPr>
              <a:t>!!Stay Calm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for Cho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00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eimlich maneu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bdominal thr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36232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the application of sudden pressure on the victim’s diaphragm so as to expel the substance blocking the air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4197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Wrap arms around the victim’s waist.  Place your hand halfway between the lower sternum and the naval with your thumb side of your hand against their abdom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onscious victi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Grasp your fist with the other hand, and press into the abdomen with quick upward thrusts until the blockage is dislodg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9810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** if you are by yourself perform abdominal thrusts on yourself by leaning over the back of a chair or the edge of a 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2057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016080" cy="6007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724280" y="1066680"/>
            <a:ext cx="3556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oking Inf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85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consciou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71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Place the infant on a downward angle ov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ar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438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sing the heel of your other hand, give fou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ick blows to the baby’s back between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ulder blad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03848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Turn the infant over.  Press two fingers into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iddle of the baby’s sternum (ches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ust), repeat four tim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638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Alternate administering back blows and ches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usts until the object is dislodg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96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143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piratory Fail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a state in which air is unable to reach the lu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524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y occur because of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lungs filling with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gas poiso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2075040" cy="1951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45200" y="1676520"/>
            <a:ext cx="3898800" cy="2517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19520" y="45720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overdose of narco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electroc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rtificial respiration or rescue brea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00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tilt victim’s head, look, listen,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8769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if not breathing, pinch nostril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gether, seal your mouth ove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irs and exhale (2 full breath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5867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keep head tilted - look, listen,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eel again, check for carotid pu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193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. if there is a pulse but no breath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inue breaths, one every fiv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s (adults), one every fou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s (children), and one ever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ree seconds (infan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114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 continue until victim starts breathing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 medical help arr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ardiopulmonary Resusci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P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8288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lifesaving technique in which a heart that has stopped is forced to pump blood to the body by means of applied pres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8120" y="4043520"/>
            <a:ext cx="37335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rdiovascular failure - failure of the heart to pump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71600"/>
            <a:ext cx="9144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ree steps of CP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r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48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rc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Types of open wound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bras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also known as a scra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damages outer layers of sk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little or no blee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become infected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caused by scraping or rubb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son 4 -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re Common Emerg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523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act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to break a b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146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: 1. Try to keep the injured part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m moving by immobilizing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419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Use a splint to secure th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jured part to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791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 Seek medical hel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2220840" cy="3470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1981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6960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rai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a condition caused by a stretching or tearing of the soft tissue bands, or ligaments, that hold bones together at a j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666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-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.I.C.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505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67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10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m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943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e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6924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inting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temporary loss of consciousness brought on by a reduced supply of blood to the b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0574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- 1. Lay person down and elevat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ir feet 8 to 12 in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505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Loosen tight cl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267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Open airw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29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Sponge face with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867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eek help if necess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 Bite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: 1. Wash area with soap and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over it with a clean dr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590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Get the person to a doctor at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0384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bie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a viral disease of the nervous system that eventually causes madness and de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809880" cy="3886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3581640" cy="2703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2120" y="52578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g b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56386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e Sting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1. use a flat sharp-edge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 to scrape the stinger away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kin until you pull out the ven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36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Wash area with soap and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2895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Watch for allergic re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505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jects in the E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038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run water in the eye starting at the nose and wor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f the object does not come out cover both eyes and seek medical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943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8"/>
                </a:solidFill>
                <a:latin typeface="Times New Roman"/>
              </a:rPr>
              <a:t>!!!Do Not rub the eyes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1600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04920" y="38098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e s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sebleed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Keep person calm and lean hea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w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pply direct pressure by pressing o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leeding nostr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42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Apply a cold towel to the person’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se and 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648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lace a piece of cotton or gauz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tween the upper lip and teeth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 the blee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rostbit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ondition in which i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ystals form in the spaces between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6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skin is yellowish or gray in color and feel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mmy or doug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362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st Aid - 1. Rewarm frozen body part b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aking in lukewarm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52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Place sheets of gauze between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rmed fingers and toes and band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343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eek medical help AS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952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angren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death of tissue in a part of the body. It often requires amputation of the affected p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483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962160" cy="26305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48320" y="762120"/>
            <a:ext cx="3125520" cy="4724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" y="3505320"/>
            <a:ext cx="3657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stb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80880" y="4338720"/>
            <a:ext cx="30481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1941480" cy="2743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505320" y="838080"/>
            <a:ext cx="3962160" cy="2978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14600" y="4800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angre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t Cramp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caused by loss of water and salt from th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219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signs: muscle cramps, heavy sweating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dache, and dizzi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438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- 1. Move out of 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048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assage the mus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733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Give sips of water or sports dr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4343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only 4 ounces every 15 minut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5029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8"/>
                </a:solidFill>
                <a:latin typeface="Times New Roman"/>
              </a:rPr>
              <a:t>!!!Do not drink too much at once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934320" y="1905120"/>
            <a:ext cx="198108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t Strok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- a life-threatening condition caused by prolonged exposure to extremely high h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133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rst Aid - 1. Prompt action is essential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819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Move person to sh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429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Immerse in cold water or place i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cks around the neck, in th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in, and under the a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257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Get medical hel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cera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or c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have jagged or smooth ed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will have bleeding as well a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mage to nerves,blood vessels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soft tiss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may be caused by knife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roken glass, or blunt objec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962520"/>
            <a:ext cx="1676520" cy="1272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17268600">
            <a:off x="7554600" y="-163080"/>
            <a:ext cx="7617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4572000" cy="345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95480" y="48769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unctu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- a piercing of the sk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caused by pin, splinter, or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ointed obj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limited external bleed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 increased possibility of internal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amage, bleeding, and inf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315200" y="1295280"/>
            <a:ext cx="1643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0:47:58Z</dcterms:created>
  <dc:creator>CCHS</dc:creator>
  <dc:description/>
  <dc:language>en-US</dc:language>
  <cp:lastModifiedBy>Chatham County Schools</cp:lastModifiedBy>
  <dcterms:modified xsi:type="dcterms:W3CDTF">2006-02-06T18:22:46Z</dcterms:modified>
  <cp:revision>47</cp:revision>
  <dc:subject/>
  <dc:title>PowerPoint Presentation</dc:title>
</cp:coreProperties>
</file>